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D4E33-A8C1-408C-8C80-28FE89DCE8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FF79-A985-45B0-BD02-EBD845C507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9461-B2E8-4618-9609-D8D70DA6E5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23DF-32F7-4241-8B37-FF8507C7774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57CBC-C5C3-4A56-87D7-359D366D28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E102-1B2C-4E42-A38C-D9B4A3CC224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6FCF-CB12-40EB-ACEE-9C04A2D1196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22A3B-E106-45FD-BD77-E71D53DC94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35D06-62ED-4818-B26F-563A51AA73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B411-479C-4948-8AD1-A3F6E0C54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61FB-D3F7-4409-8B2D-8D3A1B55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59F5-8CDE-4A93-92A7-254D0B50B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20DC-6E87-407C-9136-3F1C392FE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34E2-05D2-433F-8108-06A2788C0B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6598-DAC6-4BA8-B05C-F237B50324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E266-86E4-400C-8B1E-1C5383C15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AFE2-B3BE-4D80-9155-2209E19A51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F569-8C7A-4C02-9975-D04391055D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011F-1321-497E-8B57-10D9777025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76B7-14A9-48A7-8D18-D5EF7E5410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E43C-8978-4D42-AD51-611DCA79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F1F8-0A0A-49A1-8C79-09E936D39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2E62-8048-4894-BDBD-DDC9F2C84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2066-A8F2-47DF-8283-E6C40F7FB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30DA-00FF-4679-B4B8-0D8DE3A241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4F7F-570F-4B50-B790-9C01135F2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2AA7-ECA8-48AD-818B-FD923C8E5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853C-901C-4579-ACB2-521FFF734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3AD7-D228-4CB5-AE3E-7C8C683F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06A1-A447-48DD-8B5D-6212EBBD3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6617-F912-44B7-A27E-025AC0338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067-57E2-42A7-A3A2-D155129F8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AA6-184C-47C2-838F-24487FCDD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242E65-6804-40AC-A3DD-C131A5A343C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464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AE717D-94EF-4190-B8D5-B758DF73C8B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00000" y="404640"/>
            <a:ext cx="7701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ры государственной поддержки малого и среднего предпринимательства Курской област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www.vkpress.ru/upload/iblock/7d6/7d6c375d0008eaad9222726b2feec2d2.jpg"/>
          <p:cNvPicPr/>
          <p:nvPr/>
        </p:nvPicPr>
        <p:blipFill>
          <a:blip r:embed="rId1"/>
          <a:stretch/>
        </p:blipFill>
        <p:spPr>
          <a:xfrm>
            <a:off x="2627280" y="3500280"/>
            <a:ext cx="385596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4360" y="274680"/>
            <a:ext cx="800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рмативно- правовая б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программа «Развитие малого и среднего предпринимательства в Курской области» государственной программы Курской области «Развитие экономики и внешних связей Курской области», утвержденной постановлением Администрации Курской области от 24.10.2013 № 774-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новление Администрации Курской области от 25.04.2012 № 392-па «Об утверждении Правил предоставления субсидий для реализации мероприятий по развитию малого и среднего предпринимательства» (с последующими изменениями и дополнениям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начинающ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ственный бизнес на субсид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и затрат, связанных с организацие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ием дела, в том числе в инновационн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фере и молодежном предприниматель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ртификацией, патентованием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сударственной регистрацией результат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ллектуальной деятель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8" descr="http://365news.biz/uploads/posts/2015-01/thumbs/1421836440_poluchenie-patenta-na-izobretenie-i-prochuyu-intellektualnuyu-sobstvennost.jpg"/>
          <p:cNvPicPr/>
          <p:nvPr/>
        </p:nvPicPr>
        <p:blipFill>
          <a:blip r:embed="rId1"/>
          <a:stretch/>
        </p:blipFill>
        <p:spPr>
          <a:xfrm>
            <a:off x="250920" y="4221000"/>
            <a:ext cx="3097080" cy="21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smallbusiness.ru/upload/iblock/039/0394802e1e6c0d4d4e28b7fac7d90a20.jpg"/>
          <p:cNvPicPr/>
          <p:nvPr/>
        </p:nvPicPr>
        <p:blipFill>
          <a:blip r:embed="rId2"/>
          <a:stretch/>
        </p:blipFill>
        <p:spPr>
          <a:xfrm>
            <a:off x="5651640" y="1700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ятым в обрабатывающем производств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направленных 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дение инновационной деятельност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ернизацию производ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ением к сетя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женерной инфраструк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www.energomera.ru/images/news/20080529/rez_big.jp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210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vmr-mo.ru/upload/iblock/e0e/main.jpg"/>
          <p:cNvPicPr/>
          <p:nvPr/>
        </p:nvPicPr>
        <p:blipFill>
          <a:blip r:embed="rId2"/>
          <a:stretch/>
        </p:blipFill>
        <p:spPr>
          <a:xfrm>
            <a:off x="395280" y="422100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участи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ежрегиональных и международ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авочно-ярмарочных мероприятия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635280" y="4149720"/>
            <a:ext cx="5329440" cy="223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средне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ринимательства на компенсацию затрат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авленных на уплату части налога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зимаемого в связи с применение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прощенной системы налогооблож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доходы, уменьшенные на величину расходов)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вязи с производством товаров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фере обрабатывающего производств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ttp://6.pustotin.z8.ru/files/catalog_service/9190/919001977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5640" cy="216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www.nalog.ru/cdn/image/142417/original.jpg"/>
          <p:cNvPicPr/>
          <p:nvPr/>
        </p:nvPicPr>
        <p:blipFill>
          <a:blip r:embed="rId2"/>
          <a:stretch/>
        </p:blipFill>
        <p:spPr>
          <a:xfrm>
            <a:off x="324000" y="4149720"/>
            <a:ext cx="31003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документ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ых для участия в конкурсе на получение субсидий субъектам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, представлен на официальном сайте Администрации Курской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ttp://adm.rkursk.ru/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 раздел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4437000"/>
            <a:ext cx="8785440" cy="1440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Экономика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Малый бизнес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«Государствен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дразде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Финансово-кредит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умен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субсидирование представляю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текущем году до 1 декабря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комитет потребительского рынка, развития малого предпринимательства и лиценз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 по адрес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05000, г.Курск, ул.М.Горького, 65, 2-й эта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258920" y="4797360"/>
            <a:ext cx="6769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просам предоставления субсидий мож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ь по телефона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712) 70-19-13, 70-15-34, 70-33-48, 70-33-77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39640" y="11592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конкурсной основе субъектам малого и среднего предпринимательства Курской области предоставляю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3357720"/>
            <a:ext cx="864216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кументы на получение микрозаймов и поручительст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ляются в Ассоциацию «Центр поддерж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инимательства – микрофинансовая организация Курской области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 адресу: 305000, г.Курск, ул.М.Горького, 65, 1-й эта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360" y="1700280"/>
            <a:ext cx="453528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Микрозаймы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68360" y="2421000"/>
            <a:ext cx="460836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Поручительство по кредиту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" descr="http://kreditipo.ru/wp-content/uploads/2015/05/117228_or.jpg"/>
          <p:cNvPicPr/>
          <p:nvPr/>
        </p:nvPicPr>
        <p:blipFill>
          <a:blip r:embed="rId1"/>
          <a:stretch/>
        </p:blipFill>
        <p:spPr>
          <a:xfrm>
            <a:off x="5435640" y="1700280"/>
            <a:ext cx="3024000" cy="1368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179280" y="5229360"/>
            <a:ext cx="875052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 вопросам предоставления микрозаймов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ручительства, информационно-консультационной поддержки мож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чить по телефонам: (4712) 70-33-48, 70-33-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15:11Z</dcterms:created>
  <dc:creator>Отдел экономики</dc:creator>
  <dc:description/>
  <dc:language>en-US</dc:language>
  <cp:lastModifiedBy>41</cp:lastModifiedBy>
  <dcterms:modified xsi:type="dcterms:W3CDTF">2018-06-21T07:36:32Z</dcterms:modified>
  <cp:revision>41</cp:revision>
  <dc:subject/>
  <dc:title>Меры поддержки  малого и среднего предпринимательства по государственной программе Тверской области</dc:title>
</cp:coreProperties>
</file>