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6B550-9250-4228-AA6B-404DDBB88EA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92327-A7D4-4AF5-AD53-66FD0A02C1E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83320-4A8B-42D0-B075-3C6757F35E6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C884D-D125-495E-A15D-C1EF3233A25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4DE84-861C-40A6-86E2-362169D87BC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7BDA9-9D08-4504-8AF7-B880BDA8711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3D1CC-76D9-4BAE-A838-92073855D72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2055F-98DE-4212-A3FF-699BEB37CCE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48393-1069-4060-93B6-2E89175EDA1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D3E5C-B67A-45D7-9715-569EAA9964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379BA-C632-4A11-A9DE-10DDAF5CD0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8010B-6145-41CC-98F1-6F5D1F1856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238AF-8741-4A1A-A6DC-303C845DB0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DDA3C-26DD-4E96-BA81-CDA0811EB7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55F1F-7E06-4F2C-8F95-8171A45E9B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14F0F-66FD-4D74-97D0-430FE741C9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752C3-BA6E-48FE-9D48-4DDAAF0B9C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529C5-273F-403F-85E8-56B650F063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EEAE7-1E20-4209-AD56-190F782E8C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08505-DBC6-4CDA-9D1D-255FB35F9A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02C42-F16E-443C-8159-276957E331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8E019-DBA5-40C6-9DB9-8F804C3ECC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9A02B-55B2-4A14-B2D4-0C7774D581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637A2-BE03-431E-9974-72C216CC45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13276-B1A3-4627-ADCE-64164A25A5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40D43-6295-4336-82EB-8E69290297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8E007-A29B-42DD-83C8-E35C9507B8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4DD12-3404-4C31-A159-F37770E5F6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5B875-4F50-4E79-9D48-137E27DA69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CB6D5-3801-45C3-9028-0D456B606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F0AFB-12BC-4D6C-BEB6-951BF50178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895A0-0243-4AC7-9C40-C392C1D291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C58B7-2E32-4637-89CB-06B752A992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BE341ED-12CC-4263-B97B-FB106DF270E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0"/>
            <a:ext cx="9137520" cy="6846840"/>
            <a:chOff x="0" y="0"/>
            <a:chExt cx="9137520" cy="6846840"/>
          </a:xfrm>
        </p:grpSpPr>
        <p:grpSp>
          <p:nvGrpSpPr>
            <p:cNvPr id="3" name="Group 4"/>
            <p:cNvGrpSpPr/>
            <p:nvPr/>
          </p:nvGrpSpPr>
          <p:grpSpPr>
            <a:xfrm>
              <a:off x="2743200" y="3540240"/>
              <a:ext cx="6389640" cy="3306600"/>
              <a:chOff x="2743200" y="3540240"/>
              <a:chExt cx="6389640" cy="3306600"/>
            </a:xfrm>
          </p:grpSpPr>
          <p:sp>
            <p:nvSpPr>
              <p:cNvPr id="4" name="Freeform 5"/>
              <p:cNvSpPr/>
              <p:nvPr/>
            </p:nvSpPr>
            <p:spPr>
              <a:xfrm>
                <a:off x="2743200" y="4197240"/>
                <a:ext cx="4572000" cy="264960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6620040" y="4240080"/>
                <a:ext cx="1995480" cy="128448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603680" y="5311800"/>
                <a:ext cx="4519800" cy="15350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4362480" y="3540240"/>
                <a:ext cx="4770360" cy="330660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7145280" y="3678120"/>
                <a:ext cx="1978200" cy="85248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0"/>
            <p:cNvSpPr/>
            <p:nvPr/>
          </p:nvSpPr>
          <p:spPr>
            <a:xfrm>
              <a:off x="5273640" y="2128680"/>
              <a:ext cx="2894040" cy="243684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0" y="0"/>
              <a:ext cx="9137520" cy="281628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Text Box 1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0" y="0"/>
            <a:ext cx="9137520" cy="6846840"/>
            <a:chOff x="0" y="0"/>
            <a:chExt cx="9137520" cy="6846840"/>
          </a:xfrm>
        </p:grpSpPr>
        <p:grpSp>
          <p:nvGrpSpPr>
            <p:cNvPr id="51" name="Group 2"/>
            <p:cNvGrpSpPr/>
            <p:nvPr/>
          </p:nvGrpSpPr>
          <p:grpSpPr>
            <a:xfrm>
              <a:off x="2743200" y="3540240"/>
              <a:ext cx="6389640" cy="3306600"/>
              <a:chOff x="2743200" y="3540240"/>
              <a:chExt cx="6389640" cy="3306600"/>
            </a:xfrm>
          </p:grpSpPr>
          <p:sp>
            <p:nvSpPr>
              <p:cNvPr id="52" name="Freeform 3"/>
              <p:cNvSpPr/>
              <p:nvPr/>
            </p:nvSpPr>
            <p:spPr>
              <a:xfrm>
                <a:off x="2743200" y="4197240"/>
                <a:ext cx="4572000" cy="264960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4"/>
              <p:cNvSpPr/>
              <p:nvPr/>
            </p:nvSpPr>
            <p:spPr>
              <a:xfrm>
                <a:off x="6620040" y="4240080"/>
                <a:ext cx="1995480" cy="128448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5"/>
              <p:cNvSpPr/>
              <p:nvPr/>
            </p:nvSpPr>
            <p:spPr>
              <a:xfrm>
                <a:off x="4603680" y="5311800"/>
                <a:ext cx="4519800" cy="15350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6"/>
              <p:cNvSpPr/>
              <p:nvPr/>
            </p:nvSpPr>
            <p:spPr>
              <a:xfrm>
                <a:off x="4362480" y="3540240"/>
                <a:ext cx="4770360" cy="330660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7"/>
              <p:cNvSpPr/>
              <p:nvPr/>
            </p:nvSpPr>
            <p:spPr>
              <a:xfrm>
                <a:off x="7145280" y="3678120"/>
                <a:ext cx="1978200" cy="85248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8"/>
            <p:cNvSpPr/>
            <p:nvPr/>
          </p:nvSpPr>
          <p:spPr>
            <a:xfrm>
              <a:off x="5273640" y="2128680"/>
              <a:ext cx="2894040" cy="243684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0"/>
              <a:ext cx="9137520" cy="281628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2"/>
          </p:nvPr>
        </p:nvSpPr>
        <p:spPr>
          <a:xfrm>
            <a:off x="6553080" y="625464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2B3D97E-80DD-4B89-A0D8-9CD3571891A7}" type="slidenum">
              <a:rPr b="0" lang="ru-RU" sz="12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900000" y="404640"/>
            <a:ext cx="770112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Меры государственной поддержки малого и среднего предпринимательства Курской области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www.vkpress.ru/upload/iblock/7d6/7d6c375d0008eaad9222726b2feec2d2.jpg"/>
          <p:cNvPicPr/>
          <p:nvPr/>
        </p:nvPicPr>
        <p:blipFill>
          <a:blip r:embed="rId1"/>
          <a:stretch/>
        </p:blipFill>
        <p:spPr>
          <a:xfrm>
            <a:off x="2627280" y="3500280"/>
            <a:ext cx="3855960" cy="25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684360" y="274680"/>
            <a:ext cx="8002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ормативно- правовая баз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программа «Развитие малого и среднего предпринимательства в Курской области» государственной программы Курской области «Развитие экономики и внешних связей Курской области», утвержденной постановлением Администрации Курской области от 24.10.2013 № 774-п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становление Администрации Курской области от 25.04.2012 № 392-па «Об утверждении Правил предоставления субсидий для реализации мероприятий по развитию малого и среднего предпринимательства» (с последующими изменениями и дополнениями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редоставление субсидий субъектам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алого и среднего предпринимательств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урской области по следующим направлениям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50920" y="1700280"/>
            <a:ext cx="5041800" cy="20160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доставление субсидий начинающим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бственный бизнес на субсидировани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ти затрат, связанных с организацией 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едением дела, в том числе в инновационной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фере и молодежном предпринимательств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3635280" y="4221000"/>
            <a:ext cx="5257800" cy="21607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доставление субсидий субъектам малого 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реднего предпринимательств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возмещение затрат, связанных с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ертификацией, патентованием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осударственной регистрацией результатов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нтеллектуальной деятельност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18" descr="http://365news.biz/uploads/posts/2015-01/thumbs/1421836440_poluchenie-patenta-na-izobretenie-i-prochuyu-intellektualnuyu-sobstvennost.jpg"/>
          <p:cNvPicPr/>
          <p:nvPr/>
        </p:nvPicPr>
        <p:blipFill>
          <a:blip r:embed="rId1"/>
          <a:stretch/>
        </p:blipFill>
        <p:spPr>
          <a:xfrm>
            <a:off x="250920" y="4221000"/>
            <a:ext cx="3097080" cy="2124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http://smallbusiness.ru/upload/iblock/039/0394802e1e6c0d4d4e28b7fac7d90a20.jpg"/>
          <p:cNvPicPr/>
          <p:nvPr/>
        </p:nvPicPr>
        <p:blipFill>
          <a:blip r:embed="rId2"/>
          <a:stretch/>
        </p:blipFill>
        <p:spPr>
          <a:xfrm>
            <a:off x="5651640" y="1700280"/>
            <a:ext cx="2952720" cy="19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редоставление субсидий субъектам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алого и среднего предпринимательств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урской области по следующим направлениям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250920" y="1700280"/>
            <a:ext cx="5041800" cy="20160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доставление субсидий субъектам малого 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реднего предпринимательства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анятым в обрабатывающем производстве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возмещение затрат, направленных н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ведение инновационной деятельности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дернизацию производств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3635280" y="4221000"/>
            <a:ext cx="5257800" cy="21607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доставление субсидий субъектам малого 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реднего предпринимательств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возмещение затрат, связанных с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соединением к сетя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нженерной инфраструктур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2" descr="http://www.energomera.ru/images/news/20080529/rez_big.jpg"/>
          <p:cNvPicPr/>
          <p:nvPr/>
        </p:nvPicPr>
        <p:blipFill>
          <a:blip r:embed="rId1"/>
          <a:stretch/>
        </p:blipFill>
        <p:spPr>
          <a:xfrm>
            <a:off x="5508720" y="1700280"/>
            <a:ext cx="3166920" cy="2109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www.vmr-mo.ru/upload/iblock/e0e/main.jpg"/>
          <p:cNvPicPr/>
          <p:nvPr/>
        </p:nvPicPr>
        <p:blipFill>
          <a:blip r:embed="rId2"/>
          <a:stretch/>
        </p:blipFill>
        <p:spPr>
          <a:xfrm>
            <a:off x="395280" y="4221000"/>
            <a:ext cx="2990880" cy="21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редоставление субсидий субъектам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алого и среднего предпринимательств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урской области по следующим направлениям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50920" y="1700280"/>
            <a:ext cx="5041800" cy="20160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доставление субсидий субъектам малого 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реднего предпринимательств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возмещение затрат, связанных с участие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межрегиональных и международных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ставочно-ярмарочных мероприятиях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3635280" y="4149720"/>
            <a:ext cx="5329440" cy="22320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едоставление субсидий субъектам малого и среднего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едпринимательства на компенсацию затрат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правленных на уплату части налога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зимаемого в связи с применением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упрощенной системы налогообложения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(доходы, уменьшенные на величину расходов)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 связи с производством товаров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 сфере обрабатывающего производств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4" descr="http://6.pustotin.z8.ru/files/catalog_service/9190/919001977.jpg"/>
          <p:cNvPicPr/>
          <p:nvPr/>
        </p:nvPicPr>
        <p:blipFill>
          <a:blip r:embed="rId1"/>
          <a:stretch/>
        </p:blipFill>
        <p:spPr>
          <a:xfrm>
            <a:off x="5580000" y="1700280"/>
            <a:ext cx="3095640" cy="2163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https://www.nalog.ru/cdn/image/142417/original.jpg"/>
          <p:cNvPicPr/>
          <p:nvPr/>
        </p:nvPicPr>
        <p:blipFill>
          <a:blip r:embed="rId2"/>
          <a:stretch/>
        </p:blipFill>
        <p:spPr>
          <a:xfrm>
            <a:off x="324000" y="4149720"/>
            <a:ext cx="310032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еречень документов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еобходимых для участия в конкурсе на получение субсидий субъектам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алого и среднего предпринимательств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урской области, представлен на официальном сайте Администрации Курской обла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ttp://adm.rkursk.ru/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в разделе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79280" y="4437000"/>
            <a:ext cx="8785440" cy="14400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Garamond"/>
              </a:rPr>
              <a:t>Экономика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 » 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aramond"/>
              </a:rPr>
              <a:t>Малый бизнес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 »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Garamond"/>
              </a:rPr>
              <a:t>«Государственная поддержка малого и среднего предпринимательств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драздел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«Финансово-кредитная поддержка малого и среднего предпринимательств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468360" y="907920"/>
            <a:ext cx="82296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Документы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а субсидирование представляютс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 текущем году до 1 декабря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 комитет потребительского рынка, развития малого предпринимательства и лицензировани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урской области по адресу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305000, г.Курск, ул.М.Горького, 65, 2-й этаж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258920" y="4797360"/>
            <a:ext cx="6769080" cy="129564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ополнительную информацию по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опросам предоставления субсидий можно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лучить по телефонам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4712) 70-19-13, 70-15-34, 70-33-48, 70-33-77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539640" y="115920"/>
            <a:ext cx="82296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а конкурсной основе субъектам малого и среднего предпринимательства Курской области предоставляются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250920" y="3357720"/>
            <a:ext cx="8642160" cy="165564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окументы на получение микрозаймов и поручительства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едставляются в Ассоциацию «Центр поддержки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едпринимательства – микрофинансовая организация Курской области»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 адресу: 305000, г.Курск, ул.М.Горького, 65, 1-й этаж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468360" y="1700280"/>
            <a:ext cx="4535280" cy="57636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500" spc="-1" strike="noStrike" u="sng">
                <a:solidFill>
                  <a:srgbClr val="ffffff"/>
                </a:solidFill>
                <a:uFillTx/>
                <a:latin typeface="Garamond"/>
              </a:rPr>
              <a:t>Микрозаймы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468360" y="2421000"/>
            <a:ext cx="4608360" cy="57636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500" spc="-1" strike="noStrike" u="sng">
                <a:solidFill>
                  <a:srgbClr val="ffffff"/>
                </a:solidFill>
                <a:uFillTx/>
                <a:latin typeface="Garamond"/>
              </a:rPr>
              <a:t>Поручительство по кредиту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2" descr="http://kreditipo.ru/wp-content/uploads/2015/05/117228_or.jpg"/>
          <p:cNvPicPr/>
          <p:nvPr/>
        </p:nvPicPr>
        <p:blipFill>
          <a:blip r:embed="rId1"/>
          <a:stretch/>
        </p:blipFill>
        <p:spPr>
          <a:xfrm>
            <a:off x="5435640" y="1700280"/>
            <a:ext cx="3024000" cy="136836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5"/>
          <p:cNvSpPr/>
          <p:nvPr/>
        </p:nvSpPr>
        <p:spPr>
          <a:xfrm>
            <a:off x="179280" y="5229360"/>
            <a:ext cx="8750520" cy="115236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ополнительную информацию по вопросам предоставления микрозаймов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ручительства, информационно-консультационной поддержки можно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лучить по телефонам: (4712) 70-33-48, 70-33-77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08:15:11Z</dcterms:created>
  <dc:creator>Отдел экономики</dc:creator>
  <dc:description/>
  <dc:language>en-US</dc:language>
  <cp:lastModifiedBy>41</cp:lastModifiedBy>
  <dcterms:modified xsi:type="dcterms:W3CDTF">2018-06-21T07:36:32Z</dcterms:modified>
  <cp:revision>41</cp:revision>
  <dc:subject/>
  <dc:title>Меры поддержки  малого и среднего предпринимательства по государственной программе Тверской области</dc:title>
</cp:coreProperties>
</file>