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dt" idx="3"/>
          </p:nvPr>
        </p:nvSpPr>
        <p:spPr>
          <a:xfrm>
            <a:off x="388476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A74CDD-C021-4D41-A950-2AAA40926A88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E63290-8164-4A93-8D08-92DBBDE5807B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B4A98F-C28E-45CE-A851-A41EF27ABCBA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FD71AF-DD2D-4823-8862-4AEAD3C5B49E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07E40D-7D6E-45B8-9C22-ED0C9E724A1A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912C30-6536-4D67-BC83-D416E2525A56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2FF3E6-6E10-479D-9680-78E80D79CD41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61A9CC-F1BF-4F95-988D-9D10F2EB03D3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56E45D-479F-4216-B727-28E6661EB523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BD72F-D673-49C5-B722-70514515A4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9402C-74EE-4616-BFD2-E9F4CE5FAD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F46AD-83CE-433C-AA58-C094A64438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6290E-F1C3-4A91-9564-26FA59F2D7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27B48-9E13-4B1D-9E2C-C2F8217CFE5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57E99-FDAF-4066-B4E7-77217B134CF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AE48B-7C27-4D7F-9506-12A04FCADFD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66255-C638-4803-B720-99CAD315BA1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33947-4ADB-450F-8D89-D5AD0AF2B7B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6300E-819A-48B1-ABB2-F2AF45491C1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565A1-1C87-423A-BB18-D47FE5462A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FE170-6688-4E96-AA73-9AAA59875A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DBCAE-270D-40FE-A194-72890916D89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2DBA7-C42F-43C0-92B1-C9341C616FE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D61D5-F0E2-44A4-BD0E-A6BDEEDD9B0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C0513-F565-472C-9601-1F068385561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2C692-38D9-410C-B7A9-086DDCD54E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A3893-B376-416A-B072-D3DAECA511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EEFFF-CDC3-4C7F-A2BD-55D5F6AE98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60621-0326-4E82-8261-F7174A4402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486DD-240A-4078-B6B6-8431D803A9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54290-1845-4650-AAD4-F46556BC33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06A99-74A5-4EE4-AA27-55F7E3AA05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DE2A5-6855-436B-AFF5-DF60FF581B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0C6D111-4B64-4E53-A89A-80F247191FC1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3"/>
          <p:cNvGrpSpPr/>
          <p:nvPr/>
        </p:nvGrpSpPr>
        <p:grpSpPr>
          <a:xfrm>
            <a:off x="0" y="0"/>
            <a:ext cx="9137520" cy="6846840"/>
            <a:chOff x="0" y="0"/>
            <a:chExt cx="9137520" cy="6846840"/>
          </a:xfrm>
        </p:grpSpPr>
        <p:grpSp>
          <p:nvGrpSpPr>
            <p:cNvPr id="3" name="Group 4"/>
            <p:cNvGrpSpPr/>
            <p:nvPr/>
          </p:nvGrpSpPr>
          <p:grpSpPr>
            <a:xfrm>
              <a:off x="2743200" y="3540240"/>
              <a:ext cx="6389640" cy="3306600"/>
              <a:chOff x="2743200" y="3540240"/>
              <a:chExt cx="6389640" cy="3306600"/>
            </a:xfrm>
          </p:grpSpPr>
          <p:sp>
            <p:nvSpPr>
              <p:cNvPr id="4" name="Freeform 5"/>
              <p:cNvSpPr/>
              <p:nvPr/>
            </p:nvSpPr>
            <p:spPr>
              <a:xfrm>
                <a:off x="2743200" y="4197240"/>
                <a:ext cx="4572000" cy="264960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6"/>
              <p:cNvSpPr/>
              <p:nvPr/>
            </p:nvSpPr>
            <p:spPr>
              <a:xfrm>
                <a:off x="6620040" y="4240080"/>
                <a:ext cx="1995480" cy="128448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7"/>
              <p:cNvSpPr/>
              <p:nvPr/>
            </p:nvSpPr>
            <p:spPr>
              <a:xfrm>
                <a:off x="4603680" y="5311800"/>
                <a:ext cx="4519800" cy="153504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8"/>
              <p:cNvSpPr/>
              <p:nvPr/>
            </p:nvSpPr>
            <p:spPr>
              <a:xfrm>
                <a:off x="4362480" y="3540240"/>
                <a:ext cx="4770360" cy="330660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9"/>
              <p:cNvSpPr/>
              <p:nvPr/>
            </p:nvSpPr>
            <p:spPr>
              <a:xfrm>
                <a:off x="7145280" y="3678120"/>
                <a:ext cx="1978200" cy="85248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0"/>
            <p:cNvSpPr/>
            <p:nvPr/>
          </p:nvSpPr>
          <p:spPr>
            <a:xfrm>
              <a:off x="5273640" y="2128680"/>
              <a:ext cx="2894040" cy="243684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1"/>
            <p:cNvSpPr/>
            <p:nvPr/>
          </p:nvSpPr>
          <p:spPr>
            <a:xfrm>
              <a:off x="0" y="0"/>
              <a:ext cx="9137520" cy="281628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Text Box 13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"/>
          <p:cNvGrpSpPr/>
          <p:nvPr/>
        </p:nvGrpSpPr>
        <p:grpSpPr>
          <a:xfrm>
            <a:off x="0" y="0"/>
            <a:ext cx="9137520" cy="6846840"/>
            <a:chOff x="0" y="0"/>
            <a:chExt cx="9137520" cy="6846840"/>
          </a:xfrm>
        </p:grpSpPr>
        <p:grpSp>
          <p:nvGrpSpPr>
            <p:cNvPr id="51" name="Group 2"/>
            <p:cNvGrpSpPr/>
            <p:nvPr/>
          </p:nvGrpSpPr>
          <p:grpSpPr>
            <a:xfrm>
              <a:off x="2743200" y="3540240"/>
              <a:ext cx="6389640" cy="3306600"/>
              <a:chOff x="2743200" y="3540240"/>
              <a:chExt cx="6389640" cy="3306600"/>
            </a:xfrm>
          </p:grpSpPr>
          <p:sp>
            <p:nvSpPr>
              <p:cNvPr id="52" name="Freeform 3"/>
              <p:cNvSpPr/>
              <p:nvPr/>
            </p:nvSpPr>
            <p:spPr>
              <a:xfrm>
                <a:off x="2743200" y="4197240"/>
                <a:ext cx="4572000" cy="264960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4"/>
              <p:cNvSpPr/>
              <p:nvPr/>
            </p:nvSpPr>
            <p:spPr>
              <a:xfrm>
                <a:off x="6620040" y="4240080"/>
                <a:ext cx="1995480" cy="128448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5"/>
              <p:cNvSpPr/>
              <p:nvPr/>
            </p:nvSpPr>
            <p:spPr>
              <a:xfrm>
                <a:off x="4603680" y="5311800"/>
                <a:ext cx="4519800" cy="153504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6"/>
              <p:cNvSpPr/>
              <p:nvPr/>
            </p:nvSpPr>
            <p:spPr>
              <a:xfrm>
                <a:off x="4362480" y="3540240"/>
                <a:ext cx="4770360" cy="330660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7"/>
              <p:cNvSpPr/>
              <p:nvPr/>
            </p:nvSpPr>
            <p:spPr>
              <a:xfrm>
                <a:off x="7145280" y="3678120"/>
                <a:ext cx="1978200" cy="85248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8"/>
            <p:cNvSpPr/>
            <p:nvPr/>
          </p:nvSpPr>
          <p:spPr>
            <a:xfrm>
              <a:off x="5273640" y="2128680"/>
              <a:ext cx="2894040" cy="243684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9"/>
            <p:cNvSpPr/>
            <p:nvPr/>
          </p:nvSpPr>
          <p:spPr>
            <a:xfrm>
              <a:off x="0" y="0"/>
              <a:ext cx="9137520" cy="281628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sldNum" idx="2"/>
          </p:nvPr>
        </p:nvSpPr>
        <p:spPr>
          <a:xfrm>
            <a:off x="6553080" y="625464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ffffff"/>
                </a:solidFill>
                <a:latin typeface="Arial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A785F70-57D0-4F7A-955F-64EBA233684D}" type="slidenum">
              <a:rPr b="0" lang="ru-RU" sz="1200" spc="-1" strike="noStrike">
                <a:solidFill>
                  <a:srgbClr val="ffffff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1"/>
          <p:cNvSpPr/>
          <p:nvPr/>
        </p:nvSpPr>
        <p:spPr>
          <a:xfrm>
            <a:off x="900000" y="404640"/>
            <a:ext cx="7701120" cy="2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Меры государственной поддержки малого и среднего предпринимательства Курской области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Picture 5" descr="http://www.vkpress.ru/upload/iblock/7d6/7d6c375d0008eaad9222726b2feec2d2.jpg"/>
          <p:cNvPicPr/>
          <p:nvPr/>
        </p:nvPicPr>
        <p:blipFill>
          <a:blip r:embed="rId1"/>
          <a:stretch/>
        </p:blipFill>
        <p:spPr>
          <a:xfrm>
            <a:off x="2627280" y="3500280"/>
            <a:ext cx="3855960" cy="256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684360" y="274680"/>
            <a:ext cx="8002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Нормативно- правовая баз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дпрограмма «Развитие малого и среднего предпринимательства в Курской области» государственной программы Курской области «Развитие экономики и внешних связей Курской области», утвержденной постановлением Администрации Курской области от 24.10.2013 № 774-п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3984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3984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становление Администрации Курской области от 25.04.2012 № 392-па «Об утверждении Правил предоставления субсидий для реализации мероприятий по развитию малого и среднего предпринимательства» (с последующими изменениями и дополнениями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3984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3984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Предоставление субсидий субъектам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малого и среднего предпринимательств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Курской области по следующим направлениям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250920" y="1700280"/>
            <a:ext cx="5041800" cy="201600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едоставление субсидий начинающим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обственный бизнес на субсидирование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асти затрат, связанных с организацией 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едением дела, в том числе в инновационной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фере и молодежном предпринимательстве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AutoShape 9"/>
          <p:cNvSpPr/>
          <p:nvPr/>
        </p:nvSpPr>
        <p:spPr>
          <a:xfrm>
            <a:off x="3635280" y="4221000"/>
            <a:ext cx="5257800" cy="216072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едоставление субсидий субъектам малого и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реднего предпринимательства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 возмещение затрат, связанных с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ертификацией, патентованием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государственной регистрацией результатов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интеллектуальной деятельност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18" descr="http://365news.biz/uploads/posts/2015-01/thumbs/1421836440_poluchenie-patenta-na-izobretenie-i-prochuyu-intellektualnuyu-sobstvennost.jpg"/>
          <p:cNvPicPr/>
          <p:nvPr/>
        </p:nvPicPr>
        <p:blipFill>
          <a:blip r:embed="rId1"/>
          <a:stretch/>
        </p:blipFill>
        <p:spPr>
          <a:xfrm>
            <a:off x="250920" y="4221000"/>
            <a:ext cx="3097080" cy="2124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http://smallbusiness.ru/upload/iblock/039/0394802e1e6c0d4d4e28b7fac7d90a20.jpg"/>
          <p:cNvPicPr/>
          <p:nvPr/>
        </p:nvPicPr>
        <p:blipFill>
          <a:blip r:embed="rId2"/>
          <a:stretch/>
        </p:blipFill>
        <p:spPr>
          <a:xfrm>
            <a:off x="5651640" y="1700280"/>
            <a:ext cx="2952720" cy="196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Предоставление субсидий субъектам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малого и среднего предпринимательств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Курской области по следующим направлениям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AutoShape 5"/>
          <p:cNvSpPr/>
          <p:nvPr/>
        </p:nvSpPr>
        <p:spPr>
          <a:xfrm>
            <a:off x="250920" y="1700280"/>
            <a:ext cx="5041800" cy="201600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едоставление субсидий субъектам малого и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реднего предпринимательства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занятым в обрабатывающем производстве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 возмещение затрат, направленных на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оведение инновационной деятельности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одернизацию производств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AutoShape 9"/>
          <p:cNvSpPr/>
          <p:nvPr/>
        </p:nvSpPr>
        <p:spPr>
          <a:xfrm>
            <a:off x="3635280" y="4221000"/>
            <a:ext cx="5257800" cy="216072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едоставление субсидий субъектам малого и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реднего предпринимательства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 возмещение затрат, связанных с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исоединением к сетям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инженерной инфраструктуры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Picture 2" descr="http://www.energomera.ru/images/news/20080529/rez_big.jpg"/>
          <p:cNvPicPr/>
          <p:nvPr/>
        </p:nvPicPr>
        <p:blipFill>
          <a:blip r:embed="rId1"/>
          <a:stretch/>
        </p:blipFill>
        <p:spPr>
          <a:xfrm>
            <a:off x="5508720" y="1700280"/>
            <a:ext cx="3166920" cy="21096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http://www.vmr-mo.ru/upload/iblock/e0e/main.jpg"/>
          <p:cNvPicPr/>
          <p:nvPr/>
        </p:nvPicPr>
        <p:blipFill>
          <a:blip r:embed="rId2"/>
          <a:stretch/>
        </p:blipFill>
        <p:spPr>
          <a:xfrm>
            <a:off x="395280" y="4221000"/>
            <a:ext cx="2990880" cy="216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Предоставление субсидий субъектам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малого и среднего предпринимательств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Курской области по следующим направлениям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250920" y="1700280"/>
            <a:ext cx="5041800" cy="201600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едоставление субсидий субъектам малого и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реднего предпринимательства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 возмещение затрат, связанных с участием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 межрегиональных и международных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ыставочно-ярмарочных мероприятиях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AutoShape 9"/>
          <p:cNvSpPr/>
          <p:nvPr/>
        </p:nvSpPr>
        <p:spPr>
          <a:xfrm>
            <a:off x="3635280" y="4149720"/>
            <a:ext cx="5329440" cy="223200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едоставление субсидий субъектам малого и среднего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едпринимательства на компенсацию затрат,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аправленных на уплату части налога,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взимаемого в связи с применением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упрощенной системы налогообложения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(доходы, уменьшенные на величину расходов),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в связи с производством товаров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в сфере обрабатывающего производства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Picture 4" descr="http://6.pustotin.z8.ru/files/catalog_service/9190/919001977.jpg"/>
          <p:cNvPicPr/>
          <p:nvPr/>
        </p:nvPicPr>
        <p:blipFill>
          <a:blip r:embed="rId1"/>
          <a:stretch/>
        </p:blipFill>
        <p:spPr>
          <a:xfrm>
            <a:off x="5580000" y="1700280"/>
            <a:ext cx="3095640" cy="21636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https://www.nalog.ru/cdn/image/142417/original.jpg"/>
          <p:cNvPicPr/>
          <p:nvPr/>
        </p:nvPicPr>
        <p:blipFill>
          <a:blip r:embed="rId2"/>
          <a:stretch/>
        </p:blipFill>
        <p:spPr>
          <a:xfrm>
            <a:off x="324000" y="4149720"/>
            <a:ext cx="310032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1"/>
          <p:cNvSpPr/>
          <p:nvPr/>
        </p:nvSpPr>
        <p:spPr>
          <a:xfrm>
            <a:off x="46836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Перечень документов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необходимых для участия в конкурсе на получение субсидий субъектами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малого и среднего предпринимательств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Курской области, представлен на официальном сайте Администрации Курской област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http://adm.rkursk.ru/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в разделе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179280" y="4437000"/>
            <a:ext cx="8785440" cy="144000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Garamond"/>
              </a:rPr>
              <a:t>Экономика</a:t>
            </a: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 » 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Garamond"/>
              </a:rPr>
              <a:t>Малый бизнес</a:t>
            </a: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 » 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Garamond"/>
              </a:rPr>
              <a:t>«Государственная поддержка малого и среднего предпринимательства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подраздел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«Финансово-кредитная поддержка малого и среднего предпринимательства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1"/>
          <p:cNvSpPr/>
          <p:nvPr/>
        </p:nvSpPr>
        <p:spPr>
          <a:xfrm>
            <a:off x="468360" y="907920"/>
            <a:ext cx="82296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Документы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на субсидирование представляются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в текущем году до 1 декабря 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в комитет потребительского рынка, развития малого предпринимательства и лицензирования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Курской области по адресу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305000, г.Курск, ул.М.Горького, 65, 2-й этаж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1258920" y="4797360"/>
            <a:ext cx="6769080" cy="129564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Дополнительную информацию по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вопросам предоставления субсидий можно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олучить по телефонам: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(4712) 70-19-13, 70-15-34, 70-33-48, 70-33-77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1"/>
          <p:cNvSpPr/>
          <p:nvPr/>
        </p:nvSpPr>
        <p:spPr>
          <a:xfrm>
            <a:off x="539640" y="115920"/>
            <a:ext cx="822960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На конкурсной основе субъектам малого и среднего предпринимательства Курской области предоставляются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250920" y="3357720"/>
            <a:ext cx="8642160" cy="165564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Документы на получение микрозаймов и поручительства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редставляются в Ассоциацию «Центр поддержки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редпринимательства – микрофинансовая организация Курской области»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о адресу: 305000, г.Курск, ул.М.Горького, 65, 1-й этаж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468360" y="1700280"/>
            <a:ext cx="4535280" cy="57636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500" spc="-1" strike="noStrike" u="sng">
                <a:solidFill>
                  <a:srgbClr val="ffffff"/>
                </a:solidFill>
                <a:uFillTx/>
                <a:latin typeface="Garamond"/>
              </a:rPr>
              <a:t>Микрозаймы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468360" y="2421000"/>
            <a:ext cx="4608360" cy="57636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500" spc="-1" strike="noStrike" u="sng">
                <a:solidFill>
                  <a:srgbClr val="ffffff"/>
                </a:solidFill>
                <a:uFillTx/>
                <a:latin typeface="Garamond"/>
              </a:rPr>
              <a:t>Поручительство по кредиту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Picture 2" descr="http://kreditipo.ru/wp-content/uploads/2015/05/117228_or.jpg"/>
          <p:cNvPicPr/>
          <p:nvPr/>
        </p:nvPicPr>
        <p:blipFill>
          <a:blip r:embed="rId1"/>
          <a:stretch/>
        </p:blipFill>
        <p:spPr>
          <a:xfrm>
            <a:off x="5435640" y="1700280"/>
            <a:ext cx="3024000" cy="136836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5"/>
          <p:cNvSpPr/>
          <p:nvPr/>
        </p:nvSpPr>
        <p:spPr>
          <a:xfrm>
            <a:off x="179280" y="5229360"/>
            <a:ext cx="8750520" cy="115236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ополнительную информацию по вопросам предоставления микрозаймов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оручительства, информационно-консультационной поддержки можно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олучить по телефонам: (4712) 70-33-48, 70-33-77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0T08:15:11Z</dcterms:created>
  <dc:creator>Отдел экономики</dc:creator>
  <dc:description/>
  <dc:language>en-US</dc:language>
  <cp:lastModifiedBy>41</cp:lastModifiedBy>
  <dcterms:modified xsi:type="dcterms:W3CDTF">2018-06-21T07:36:32Z</dcterms:modified>
  <cp:revision>41</cp:revision>
  <dc:subject/>
  <dc:title>Меры поддержки  малого и среднего предпринимательства по государственной программе Тверской области</dc:title>
</cp:coreProperties>
</file>