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EF4BD-8E01-48C4-B843-554F01E9B61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0A167-F4B0-41EC-ACA8-6132AC5D08B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41591-79E9-468B-B3C3-3CCF736FC62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DCF1F-2511-4797-A7FC-37DC25584BB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EEAAD-35AB-43FA-81B2-557CD7DC846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31E75-FAC1-4634-9FF9-0F708A1B1E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05211-19E2-44EC-95D0-BDDAA28D334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C445D-569E-4961-B91E-1D6ECEBF508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3D41F-5B07-499A-8D5E-69A3CB921E9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843B-1F12-4065-9183-5A58A19CF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5115-7F10-416A-8A4F-679CFDAB1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9440-FC81-4AEF-9C8D-01FB73EF3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F5BA-A71D-463F-8DA7-80E0AB399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3EB4-8AE3-40E2-9E11-DB5A54F91E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66E8-2A4E-437C-B18A-D1A1EEA7F8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D5D2-0978-421E-AAE8-777CCA9E85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CD51-F863-484F-A9CE-D3F8B2D86F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7417C-6974-4D23-8D6C-314AE71E40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AFEA5-2EA7-4649-AF83-5D83D9C3C1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2A89-6EFA-4322-A612-1F2696A0F4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7136-F415-48DB-A46C-DFEC498D3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3F26-52E4-460E-81E5-CB17D259D1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6451-793F-49E4-B671-1E880E5D04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DE6B-F3B0-42C6-9150-FB53261C67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3542-C5C2-41F7-A10B-4FEC760298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CA76-5D8C-490E-A0D2-A8B3788BEA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F946-3135-4792-A210-293AAF58D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F54A-3B30-41AD-9255-4D93EAFA0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8268-E927-4A4E-8A6A-7ACD802B3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1F9C-EC42-46E4-A4A8-CACB9F7A6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9A13-AEEA-4951-84CD-DFEEFF639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4CCF-C441-4025-B61D-D62DA01D0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55CD-30D0-4AE0-9D90-FAF31805D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76D744-1FE2-4789-8F6F-302BBF42720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2000" cy="264960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5480" cy="1284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19800" cy="15350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0360" cy="33066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8200" cy="8524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4040" cy="24368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7520" cy="281628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72000" cy="264960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5480" cy="128448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19800" cy="15350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70360" cy="33066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8200" cy="8524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4040" cy="24368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7520" cy="281628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6553080" y="625464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97EE22-C767-43EF-85F4-D6A1984078BB}" type="slidenum">
              <a:rPr b="0" lang="ru-RU" sz="1200" spc="-1" strike="noStrike">
                <a:solidFill>
                  <a:srgbClr val="ffffff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900000" y="404640"/>
            <a:ext cx="770112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еры государственной поддержки малого и среднего предпринимательства Курской област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www.vkpress.ru/upload/iblock/7d6/7d6c375d0008eaad9222726b2feec2d2.jpg"/>
          <p:cNvPicPr/>
          <p:nvPr/>
        </p:nvPicPr>
        <p:blipFill>
          <a:blip r:embed="rId1"/>
          <a:stretch/>
        </p:blipFill>
        <p:spPr>
          <a:xfrm>
            <a:off x="2627280" y="3500280"/>
            <a:ext cx="3855960" cy="25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84360" y="274680"/>
            <a:ext cx="8002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ормативно- правовая баз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программа «Развитие малого и среднего предпринимательства в Курской области» государственной программы Курской области «Развитие экономики и внешних связей Курской области», утвержденной постановлением Администрации Курской области от 24.10.2013 № 774-п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становление Администрации Курской области от 25.04.2012 № 392-па «Об утверждении Правил предоставления субсидий для реализации мероприятий по развитию малого и среднего предпринимательства» (с последующими изменениями и дополнениями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984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 по следующим направлени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50920" y="1700280"/>
            <a:ext cx="5041800" cy="2016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начинающи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обственный бизнес на субсидирова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ти затрат, связанных с организацией 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едением дела, в том числе в инновационно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фере и молодежном предпринимательств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3635280" y="4221000"/>
            <a:ext cx="5257800" cy="2160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связанных 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ертификацией, патентованием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государственной регистрацией результатов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теллектуальной деятельно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8" descr="http://365news.biz/uploads/posts/2015-01/thumbs/1421836440_poluchenie-patenta-na-izobretenie-i-prochuyu-intellektualnuyu-sobstvennost.jpg"/>
          <p:cNvPicPr/>
          <p:nvPr/>
        </p:nvPicPr>
        <p:blipFill>
          <a:blip r:embed="rId1"/>
          <a:stretch/>
        </p:blipFill>
        <p:spPr>
          <a:xfrm>
            <a:off x="250920" y="4221000"/>
            <a:ext cx="3097080" cy="2124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ttp://smallbusiness.ru/upload/iblock/039/0394802e1e6c0d4d4e28b7fac7d90a20.jpg"/>
          <p:cNvPicPr/>
          <p:nvPr/>
        </p:nvPicPr>
        <p:blipFill>
          <a:blip r:embed="rId2"/>
          <a:stretch/>
        </p:blipFill>
        <p:spPr>
          <a:xfrm>
            <a:off x="5651640" y="1700280"/>
            <a:ext cx="295272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 по следующим направлени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250920" y="1700280"/>
            <a:ext cx="5041800" cy="2016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занятым в обрабатывающем производстве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направленных 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ведение инновационной деятельности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модернизацию производ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3635280" y="4221000"/>
            <a:ext cx="5257800" cy="2160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связанных 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соединением к сетя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инженерной инфраструктур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" descr="http://www.energomera.ru/images/news/20080529/rez_big.jp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210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www.vmr-mo.ru/upload/iblock/e0e/main.jpg"/>
          <p:cNvPicPr/>
          <p:nvPr/>
        </p:nvPicPr>
        <p:blipFill>
          <a:blip r:embed="rId2"/>
          <a:stretch/>
        </p:blipFill>
        <p:spPr>
          <a:xfrm>
            <a:off x="395280" y="4221000"/>
            <a:ext cx="29908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 по следующим направлени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50920" y="1700280"/>
            <a:ext cx="5041800" cy="2016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реднего предпринимательств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а возмещение затрат, связанных с участие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межрегиональных и международны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авочно-ярмарочных мероприятиях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3635280" y="4149720"/>
            <a:ext cx="5329440" cy="2232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едоставление субсидий субъектам малого и средне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предпринимательства на компенсацию затрат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направленных на уплату части налога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зимаемого в связи с применение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упрощенной системы налогообложен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(доходы, уменьшенные на величину расходов)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связи с производством товаров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в сфере обрабатывающего производства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http://6.pustotin.z8.ru/files/catalog_service/9190/919001977.jpg"/>
          <p:cNvPicPr/>
          <p:nvPr/>
        </p:nvPicPr>
        <p:blipFill>
          <a:blip r:embed="rId1"/>
          <a:stretch/>
        </p:blipFill>
        <p:spPr>
          <a:xfrm>
            <a:off x="5580000" y="1700280"/>
            <a:ext cx="3095640" cy="2163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ttps://www.nalog.ru/cdn/image/142417/original.jpg"/>
          <p:cNvPicPr/>
          <p:nvPr/>
        </p:nvPicPr>
        <p:blipFill>
          <a:blip r:embed="rId2"/>
          <a:stretch/>
        </p:blipFill>
        <p:spPr>
          <a:xfrm>
            <a:off x="324000" y="4149720"/>
            <a:ext cx="31003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еречень документов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обходимых для участия в конкурсе на получение субсидий субъектам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алого и среднего предпринимательств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, представлен на официальном сайте Администрации Курской обла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ttp://adm.rkursk.ru/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в раздел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9280" y="4437000"/>
            <a:ext cx="8785440" cy="144000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Экономика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 »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Малый бизнес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 »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aramond"/>
              </a:rPr>
              <a:t>«Государственная поддержка малого и среднего предпринимательств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драздел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«Финансово-кредитная поддержка малого и среднего предпринимательств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468360" y="907920"/>
            <a:ext cx="82296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кумент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 субсидирование представляю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текущем году до 1 декабря 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в комитет потребительского рынка, развития малого предпринимательства и лицензирова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урской области по адресу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05000, г.Курск, ул.М.Горького, 65, 2-й этаж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258920" y="4797360"/>
            <a:ext cx="6769080" cy="129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ополнительную информацию по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опросам предоставления субсидий можно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лучить по телефонам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(4712) 70-19-13, 70-15-34, 70-33-48, 70-33-77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539640" y="115920"/>
            <a:ext cx="82296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а конкурсной основе субъектам малого и среднего предпринимательства Курской области предоставляютс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50920" y="3357720"/>
            <a:ext cx="8642160" cy="165564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окументы на получение микрозаймов и поручительств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ставляются в Ассоциацию «Центр поддержк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ринимательства – микрофинансовая организация Курской области»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 адресу: 305000, г.Курск, ул.М.Горького, 65, 1-й этаж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468360" y="1700280"/>
            <a:ext cx="4535280" cy="576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Garamond"/>
              </a:rPr>
              <a:t>Микрозаймы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468360" y="2421000"/>
            <a:ext cx="4608360" cy="576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" spc="-1" strike="noStrike" u="sng">
                <a:solidFill>
                  <a:srgbClr val="ffffff"/>
                </a:solidFill>
                <a:uFillTx/>
                <a:latin typeface="Garamond"/>
              </a:rPr>
              <a:t>Поручительство по кредиту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2" descr="http://kreditipo.ru/wp-content/uploads/2015/05/117228_or.jpg"/>
          <p:cNvPicPr/>
          <p:nvPr/>
        </p:nvPicPr>
        <p:blipFill>
          <a:blip r:embed="rId1"/>
          <a:stretch/>
        </p:blipFill>
        <p:spPr>
          <a:xfrm>
            <a:off x="5435640" y="1700280"/>
            <a:ext cx="3024000" cy="13683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5"/>
          <p:cNvSpPr/>
          <p:nvPr/>
        </p:nvSpPr>
        <p:spPr>
          <a:xfrm>
            <a:off x="179280" y="5229360"/>
            <a:ext cx="8750520" cy="115236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ополнительную информацию по вопросам предоставления микрозаймов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ручительства, информационно-консультационной поддержки можн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лучить по телефонам: (4712) 70-33-48, 70-33-77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0T08:15:11Z</dcterms:created>
  <dc:creator>Отдел экономики</dc:creator>
  <dc:description/>
  <dc:language>en-US</dc:language>
  <cp:lastModifiedBy>41</cp:lastModifiedBy>
  <dcterms:modified xsi:type="dcterms:W3CDTF">2018-06-21T07:36:32Z</dcterms:modified>
  <cp:revision>41</cp:revision>
  <dc:subject/>
  <dc:title>Меры поддержки  малого и среднего предпринимательства по государственной программе Тверской области</dc:title>
</cp:coreProperties>
</file>